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ct" ContentType="image/x-pict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DE53-0A0D-4DAE-8512-FAFF0A3651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4BCF-C31E-418B-ACED-D250327808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DA26-54EA-4A17-B67D-204C83D1D8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4C38-C280-427A-B585-7B7B387013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66B4-CD40-4E57-96D9-CA1B11F0C5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651F-3420-401E-BF9C-AE6CB23C51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D3EC-F9A3-4831-9CA4-90F95DE2E6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B014-F293-46F1-994C-92018615B1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4C69-5C55-46B4-B2B0-72ED12BB8F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A9E6-A6DC-4140-B0F1-EB5AB8D9AA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4B38-0490-4CD4-A25C-05BCF35E42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A6BC-89EE-4363-A250-341EF3E1C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A27B-F9AB-4713-B29C-C701E8BB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8F2A-B0CD-4BC7-A555-812A2F8AF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4530-08F3-4BA6-8A9E-0C4379CD1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5B23-30A0-4AD4-9224-0BCB8A36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59B1-1B14-41B8-9DBE-10AFCFFA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76BA-2BF1-45C5-8243-C84E3272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B2A7-3DA9-496B-B34D-32946F47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35E4-55CB-4538-BF99-4589BB59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F4B0-DFA4-4276-98AA-0B3EB73C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C078-97FD-4BE5-9A7E-52530705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B768-557F-4661-BAD2-14F55D82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B0AF-2D82-4BB4-8770-8E94AE72C2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8AD6-CDF3-4C8A-982C-BE09C031C5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photos_view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I HAVE A DREAM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391160" y="457200"/>
            <a:ext cx="1523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ugust 28, 196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1066680" y="6019920"/>
            <a:ext cx="7010640" cy="520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y: Dominique T.  Molly M.  Luisa 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ion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hundred years before Lincoln took steps for equality, but a hundred years later African Americans are still fighting for equa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mlk06"/>
          <p:cNvPicPr/>
          <p:nvPr/>
        </p:nvPicPr>
        <p:blipFill>
          <a:blip r:embed="rId1"/>
          <a:srcRect l="0" t="0" r="30850" b="0"/>
          <a:stretch/>
        </p:blipFill>
        <p:spPr>
          <a:xfrm>
            <a:off x="0" y="0"/>
            <a:ext cx="762120" cy="749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264px-Abraham_Lincoln_clip_art.svg.png"/>
          <p:cNvPicPr/>
          <p:nvPr/>
        </p:nvPicPr>
        <p:blipFill>
          <a:blip r:embed="rId2"/>
          <a:stretch/>
        </p:blipFill>
        <p:spPr>
          <a:xfrm>
            <a:off x="3370320" y="3733920"/>
            <a:ext cx="2116080" cy="2476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ion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Constitution an Declaration of Independence, the promises that all men are created equal and the 3 basic rights are empty and were not carried out.  When African Americans want their rights to be proven, they are given noth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mlk06"/>
          <p:cNvPicPr/>
          <p:nvPr/>
        </p:nvPicPr>
        <p:blipFill>
          <a:blip r:embed="rId1"/>
          <a:srcRect l="0" t="0" r="30850" b="0"/>
          <a:stretch/>
        </p:blipFill>
        <p:spPr>
          <a:xfrm>
            <a:off x="0" y="0"/>
            <a:ext cx="762120" cy="749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j01742191.gif"/>
          <p:cNvPicPr/>
          <p:nvPr/>
        </p:nvPicPr>
        <p:blipFill>
          <a:blip r:embed="rId2"/>
          <a:stretch/>
        </p:blipFill>
        <p:spPr>
          <a:xfrm>
            <a:off x="5059440" y="4311720"/>
            <a:ext cx="2413080" cy="2298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ion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ime to take action is now.  We cannot wait to fight for equa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mlk06"/>
          <p:cNvPicPr/>
          <p:nvPr/>
        </p:nvPicPr>
        <p:blipFill>
          <a:blip r:embed="rId1"/>
          <a:srcRect l="0" t="0" r="30850" b="0"/>
          <a:stretch/>
        </p:blipFill>
        <p:spPr>
          <a:xfrm>
            <a:off x="0" y="0"/>
            <a:ext cx="762120" cy="749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alarm-clock-ringing.gif"/>
          <p:cNvPicPr/>
          <p:nvPr/>
        </p:nvPicPr>
        <p:blipFill>
          <a:blip r:embed="rId2"/>
          <a:stretch/>
        </p:blipFill>
        <p:spPr>
          <a:xfrm>
            <a:off x="3048120" y="2944800"/>
            <a:ext cx="3047760" cy="28465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ion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order to be truly successful in gaining equality we must be strong and also peaceful.  Hatred will not solve the hatred we are fac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mlk06"/>
          <p:cNvPicPr/>
          <p:nvPr/>
        </p:nvPicPr>
        <p:blipFill>
          <a:blip r:embed="rId1"/>
          <a:srcRect l="0" t="0" r="30850" b="0"/>
          <a:stretch/>
        </p:blipFill>
        <p:spPr>
          <a:xfrm>
            <a:off x="0" y="0"/>
            <a:ext cx="762120" cy="749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Peace+Symbol.png"/>
          <p:cNvPicPr/>
          <p:nvPr/>
        </p:nvPicPr>
        <p:blipFill>
          <a:blip r:embed="rId2"/>
          <a:stretch/>
        </p:blipFill>
        <p:spPr>
          <a:xfrm>
            <a:off x="2933640" y="3048120"/>
            <a:ext cx="3162240" cy="33732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ion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must not leave this situation without hatred.  We must finish this now with forgiven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mlk06"/>
          <p:cNvPicPr/>
          <p:nvPr/>
        </p:nvPicPr>
        <p:blipFill>
          <a:blip r:embed="rId1"/>
          <a:srcRect l="0" t="0" r="30850" b="0"/>
          <a:stretch/>
        </p:blipFill>
        <p:spPr>
          <a:xfrm>
            <a:off x="0" y="0"/>
            <a:ext cx="762120" cy="749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2743200" y="3886200"/>
            <a:ext cx="3657600" cy="24256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ion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less we are equal and have the same rights, we will not be satisfied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mlk06"/>
          <p:cNvPicPr/>
          <p:nvPr/>
        </p:nvPicPr>
        <p:blipFill>
          <a:blip r:embed="rId1"/>
          <a:srcRect l="0" t="0" r="30850" b="0"/>
          <a:stretch/>
        </p:blipFill>
        <p:spPr>
          <a:xfrm>
            <a:off x="0" y="0"/>
            <a:ext cx="762120" cy="749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images.jpg"/>
          <p:cNvPicPr/>
          <p:nvPr/>
        </p:nvPicPr>
        <p:blipFill>
          <a:blip r:embed="rId2"/>
          <a:stretch/>
        </p:blipFill>
        <p:spPr>
          <a:xfrm>
            <a:off x="2743200" y="2971800"/>
            <a:ext cx="3478320" cy="34783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ion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believes that one day everyone will be equal and no one will be judged based on the color of their sk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mlk06"/>
          <p:cNvPicPr/>
          <p:nvPr/>
        </p:nvPicPr>
        <p:blipFill>
          <a:blip r:embed="rId1"/>
          <a:srcRect l="0" t="0" r="30850" b="0"/>
          <a:stretch/>
        </p:blipFill>
        <p:spPr>
          <a:xfrm>
            <a:off x="0" y="0"/>
            <a:ext cx="762120" cy="749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2636640" cy="2649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ion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is saying that even at the places with the most violent racist history freedom and equality will be present.  If America wants to be a great nation, everyone must be equa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mlk06"/>
          <p:cNvPicPr/>
          <p:nvPr/>
        </p:nvPicPr>
        <p:blipFill>
          <a:blip r:embed="rId1"/>
          <a:srcRect l="0" t="0" r="30850" b="0"/>
          <a:stretch/>
        </p:blipFill>
        <p:spPr>
          <a:xfrm>
            <a:off x="0" y="0"/>
            <a:ext cx="762120" cy="749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flag_05.jpg"/>
          <p:cNvPicPr/>
          <p:nvPr/>
        </p:nvPicPr>
        <p:blipFill>
          <a:blip r:embed="rId2"/>
          <a:stretch/>
        </p:blipFill>
        <p:spPr>
          <a:xfrm>
            <a:off x="3127320" y="3809880"/>
            <a:ext cx="3044880" cy="2590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3:23:26Z</dcterms:created>
  <dc:creator>Admin</dc:creator>
  <dc:description/>
  <dc:language>en-US</dc:language>
  <cp:lastModifiedBy>tech</cp:lastModifiedBy>
  <dcterms:modified xsi:type="dcterms:W3CDTF">2010-06-03T13:33:41Z</dcterms:modified>
  <cp:revision>9</cp:revision>
  <dc:subject/>
  <dc:title>I HAVE A DREAM</dc:title>
</cp:coreProperties>
</file>